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DC88-150B-49DD-97F6-4B23F47B13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气球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0EE-983F-4503-AC5B-A4DA5E1D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14A-1D49-4738-8EB9-0EF8DCDB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AA4-30DD-41B0-8881-BA9D45CC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484-DF21-4D7F-992F-5C2A8BC0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35EB-2652-420A-B06C-1AB0C64C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A41-2DCB-4120-ADF4-A0D6BB1E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1AB5-9C12-4769-897C-EDB3D531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83A7-15A0-40AD-9005-E2884A2D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90FB-102B-433D-BF20-710E91ED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C65D-BAED-4F26-833E-7F30B649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B744-25F6-48AC-8614-74FFCBC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564-24F1-4444-A1E3-AC24287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87AD-6DE7-437D-94E0-94375EE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AC7B-E2B9-4921-929F-C4EF928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A5F-9423-4AC2-B209-D3466B05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CF0-7DBC-42C0-8BEA-1113A2EE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EAE6-267B-4084-A542-7FB72579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590-A220-4734-8087-64E66B60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83D-1C09-4767-A4C3-3250219A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D64-35BE-4A6C-8FC9-06F8AC13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DE1-18B9-4A9B-92F3-B827A53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690-5794-4F61-AD9A-91FC90EB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5E4-DC71-4724-BF93-43E48563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1CC-C967-4904-9182-2A5435EC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9210-6966-4BAE-9258-610C76D1522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9AE-C1E3-4684-8F26-31C03E0B770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6.jpeg"/><Relationship Id="rId4" Type="http://schemas.openxmlformats.org/officeDocument/2006/relationships/slide" Target="slide7.xml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1280" y="2421000"/>
            <a:ext cx="50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----</a:t>
            </a: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343400" y="45720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4191120" cy="4343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327636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05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133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98900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快板表演：《坏习惯危害大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1545600">
            <a:off x="6587640" y="3645000"/>
            <a:ext cx="1295640" cy="212256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685800"/>
            <a:ext cx="5562720" cy="259092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907920"/>
            <a:ext cx="3581280" cy="541044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2286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二、改正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" descr="01-09-008-04.gif (22138 字节)"/>
          <p:cNvPicPr/>
          <p:nvPr/>
        </p:nvPicPr>
        <p:blipFill>
          <a:blip r:embed="rId2"/>
          <a:stretch/>
        </p:blipFill>
        <p:spPr>
          <a:xfrm>
            <a:off x="6997680" y="0"/>
            <a:ext cx="2146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1066680"/>
            <a:ext cx="6095880" cy="302256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905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一、认识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545600">
            <a:off x="533520" y="3428640"/>
            <a:ext cx="3047760" cy="242568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45720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班里有同学损坏了公物，老师来调查时谁也不说，一起帮助这位同学掩盖事情真相，假如你是知情者，但又碍于同学间的面子，不好当面站出来，那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57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动动脑筋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如果碰到下列情况，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周一自习课，老师都在开会，班上同学吵闹，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你做作业时碰到难题，百思不得其解，同学把做好的作业让你抄，你会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666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假如你的好朋友经常无节制地上网玩游戏，你打算怎么帮助他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课间你在走廊中吃完橘子，剩下橘子皮，可旁边没有垃圾箱，也没有老师，这时你会怎么办？请实话实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86508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66680" y="19051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三、评选班级“文明之星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00200"/>
            <a:ext cx="883908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语言上讲文明           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行为上讲规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学习上讲刻苦           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生活上讲卫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活动中讲参与           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集体中讲团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待人上讲礼貌           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处事上讲谦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校内外讲形象          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时时处处讲安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9907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十讲”内容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050920" y="1413000"/>
            <a:ext cx="46818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明天会更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1835280" y="692280"/>
            <a:ext cx="3047760" cy="457200"/>
          </a:xfrm>
          <a:custGeom>
            <a:avLst/>
            <a:gdLst>
              <a:gd name="textAreaLeft" fmla="*/ 29520 w 3047760"/>
              <a:gd name="textAreaRight" fmla="*/ 3018240 w 3047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892" h="21600">
                <a:moveTo>
                  <a:pt x="0" y="0"/>
                </a:moveTo>
                <a:lnTo>
                  <a:pt x="143892" y="0"/>
                </a:lnTo>
                <a:lnTo>
                  <a:pt x="143892" y="21600"/>
                </a:lnTo>
                <a:lnTo>
                  <a:pt x="0" y="21600"/>
                </a:lnTo>
                <a:close/>
              </a:path>
              <a:path fill="lightenLess" w="143892" h="21600">
                <a:moveTo>
                  <a:pt x="0" y="0"/>
                </a:moveTo>
                <a:lnTo>
                  <a:pt x="143892" y="0"/>
                </a:lnTo>
                <a:lnTo>
                  <a:pt x="142492" y="1400"/>
                </a:lnTo>
                <a:lnTo>
                  <a:pt x="1400" y="1400"/>
                </a:lnTo>
                <a:close/>
              </a:path>
              <a:path fill="darken" w="143892" h="21600">
                <a:moveTo>
                  <a:pt x="143892" y="0"/>
                </a:moveTo>
                <a:lnTo>
                  <a:pt x="143892" y="21600"/>
                </a:lnTo>
                <a:lnTo>
                  <a:pt x="142492" y="20200"/>
                </a:lnTo>
                <a:lnTo>
                  <a:pt x="142492" y="1400"/>
                </a:lnTo>
                <a:close/>
              </a:path>
              <a:path fill="darkenLess" w="143892" h="21600">
                <a:moveTo>
                  <a:pt x="14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92" y="20200"/>
                </a:lnTo>
                <a:close/>
              </a:path>
              <a:path fill="lighten" w="14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81280" y="4013280"/>
            <a:ext cx="5562720" cy="284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1905120"/>
            <a:ext cx="86868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《发生在我们身边的事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30492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情境体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2276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分小组讨论，除上面的这些行为习惯外，我们班中还有哪些，并说说有什么害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12720" cy="3573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52280"/>
            <a:ext cx="3168720" cy="1341720"/>
          </a:xfrm>
          <a:prstGeom prst="cloudCallout">
            <a:avLst>
              <a:gd name="adj1" fmla="val -63027"/>
              <a:gd name="adj2" fmla="val 28226"/>
            </a:avLst>
          </a:prstGeom>
          <a:solidFill>
            <a:srgbClr val="66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228600"/>
            <a:ext cx="20876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你说我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2133720"/>
            <a:ext cx="350532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3280" y="549360"/>
            <a:ext cx="4105440" cy="234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427640" y="342900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62120" y="228600"/>
            <a:ext cx="2743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不良行为习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5345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3933720"/>
            <a:ext cx="3311640" cy="2548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848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396216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876920" y="22860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5:52:1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5:13Z</dcterms:modified>
  <cp:revision>1</cp:revision>
  <dc:subject>主题班会课件(分28大类): http://shop62905894.taobao.com</dc:subject>
  <dc:title>主题班会课件(分28大类): http://shop62905894.taobao.com</dc:title>
</cp:coreProperties>
</file>